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1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3D8-E20A-42AF-8863-4268DBA2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94F-DBFD-432D-9C2B-C0B6839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FAE-C139-4186-AEE0-8D80C29F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037-3B5E-41CF-92E0-D490CF82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8D7-CC9C-4C6E-AAA4-94ADA9E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575-2614-4CB2-A273-F77B4C4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FB5-D86F-4748-8F5F-95D75407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CB8-F887-4773-99EC-B4A5A67E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D6-209F-4BAC-AB43-E36FB322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9D3-B39D-468F-B0F7-8BF45DE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BE0-5874-4ABB-AAD1-6ED6783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FDC-A006-4B96-AEE8-6E087BB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440-C3FE-4775-BDA2-D1312B802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D ENDING GUESSING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" cy="9050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8915400" cy="905040"/>
            <a:chOff x="0" y="0"/>
            <a:chExt cx="8915400" cy="905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8288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5812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4956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341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62485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71629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80010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914400" y="9144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828800" y="91440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666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5053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44197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25780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095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70102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924680" y="91440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648320"/>
            <a:ext cx="2743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E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nimal with antl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04960" y="45716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3457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othes are made of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9880" y="457200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30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h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9520" y="4647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pick something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6360" y="5333760"/>
            <a:ext cx="2361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120760"/>
            <a:ext cx="2705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you can float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81280" y="54860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3591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5486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tegory and an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mouse to watch the answers fly in to check your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the main page by clicking on the letter of the alphabet from each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FAMILY GUESSING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44792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small b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9000" y="487656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2635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use this when you go camp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9520" y="5105520"/>
            <a:ext cx="1676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3719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e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240" y="5562720"/>
            <a:ext cx="1981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2292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48120" y="1905120"/>
            <a:ext cx="29048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finger is cur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57240" y="5181120"/>
            <a:ext cx="1676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1401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one grouchy might do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55627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264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rink that comes from a cow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33920" y="556272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31291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2:40Z</dcterms:created>
  <dc:creator>Amityville UFSD</dc:creator>
  <dc:description/>
  <dc:language>en-US</dc:language>
  <cp:lastModifiedBy>Administrator</cp:lastModifiedBy>
  <dcterms:modified xsi:type="dcterms:W3CDTF">2009-02-10T18:53:53Z</dcterms:modified>
  <cp:revision>11</cp:revision>
  <dc:subject/>
  <dc:title>WORD FAMILY GUESSING GAME!</dc:title>
</cp:coreProperties>
</file>